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95843"/>
        <c:axId val="2577060"/>
      </c:barChart>
      <c:catAx>
        <c:axId val="10295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7060"/>
        <c:crosses val="autoZero"/>
        <c:auto val="1"/>
        <c:lblAlgn val="ctr"/>
        <c:lblOffset val="100"/>
        <c:noMultiLvlLbl val="0"/>
      </c:catAx>
      <c:valAx>
        <c:axId val="25770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95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E6A-4EFC-4E67-82B3-9C9BA8C4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EF5-1081-439E-896B-8CD20EF0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689-C671-4F47-AF55-4EBB7158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081-2160-4AF0-9735-902DEBE1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163-5DE9-4A91-B183-531F1C00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ED7-B088-40E3-BC3D-ABCB8EE4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542-9CD8-452F-B5A5-2E8FBAA2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3A8-F28F-408D-AAA7-4327F8F3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1B34-628A-4BCA-824A-07BC72CC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002-5439-4F7B-AFE5-C90BD81D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2DE-DA6B-4D3B-BF0C-6C649936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B29-F86A-4944-9B57-4F9692AD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0484F-C492-4CD3-9F0B-6A25FC4A1C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