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75972"/>
        <c:axId val="3179308"/>
      </c:barChart>
      <c:catAx>
        <c:axId val="8575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9308"/>
        <c:crosses val="autoZero"/>
        <c:auto val="1"/>
        <c:lblAlgn val="ctr"/>
        <c:lblOffset val="100"/>
        <c:noMultiLvlLbl val="0"/>
      </c:catAx>
      <c:valAx>
        <c:axId val="31793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75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E25-E019-4FC4-AA80-78699CAE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4D12-2E61-4B7F-9422-DA8B0482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EA9D-DAA4-49DA-8AF4-5C1E54CF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577E-A8EB-4790-A6FB-FED47616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D37-151A-4F24-A7FC-56D87B28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2DE-929E-4234-AFBA-6E0440E4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331-5CD8-49FE-A3BC-E5028B5B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7C08-651E-40A6-BBB2-4C66C29C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7BC-8732-4755-9ABA-EA2A1A5D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BA68-1087-4BE1-A454-A236430A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9B66-2ACC-474E-A378-FD6CC31C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80D4-FA3E-4423-9194-51E856E0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26C63-C459-47B6-BEB6-66A908DC97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