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11313"/>
        <c:axId val="4164408"/>
      </c:barChart>
      <c:catAx>
        <c:axId val="22711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4408"/>
        <c:crosses val="autoZero"/>
        <c:auto val="1"/>
        <c:lblAlgn val="ctr"/>
        <c:lblOffset val="100"/>
        <c:noMultiLvlLbl val="0"/>
      </c:catAx>
      <c:valAx>
        <c:axId val="4164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1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5E9-DB2C-4CDB-B59B-78B4DFD5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7AB-5377-400C-9798-1CAA3C4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14D-AF01-43B7-B3A8-A3960FF5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9BB-F76F-4733-9DFB-49932B43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741-F476-4CC6-BA2A-18E41236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0C5-95A5-4613-9576-4CD5A2D0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6E5-2F37-4A30-A067-7F3E284D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3AD-3527-4335-BF3E-CC405ECC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00B-515F-483E-BD52-F1A74DF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BF2-E258-4471-BDC3-49EBFC0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5DC-F035-4EA5-AD31-90AAD22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19F-1908-4922-B071-1B049A6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135D6-206D-43BE-8796-CE83B30378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