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26487"/>
        <c:axId val="73379633"/>
      </c:barChart>
      <c:catAx>
        <c:axId val="99026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79633"/>
        <c:crosses val="autoZero"/>
        <c:auto val="1"/>
        <c:lblAlgn val="ctr"/>
        <c:lblOffset val="100"/>
        <c:noMultiLvlLbl val="0"/>
      </c:catAx>
      <c:valAx>
        <c:axId val="73379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26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6416-A0DF-4200-8003-5E36CEDF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9ED-1B02-4CA2-8F5E-5071BDCF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516-2962-4AAB-B384-C9225B50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8971-A39A-4E7B-8DD7-0C37126C0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FD3-771A-4194-A830-7A701517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186-9E7D-4613-BAE0-4FFCBF13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385-4AAF-4E3F-904D-E7D09E5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4BC-E7AF-4066-95CE-729CA064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051-CEC1-4FB8-A09A-423FC69E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358-C8EE-4A80-ADAC-2D2DA5C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227E-1E21-47A4-B03F-C71975A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AF78-0AFB-4BB3-80F9-315F4D3C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B3A46-B5B4-49D6-8D1D-449665D51B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