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09505"/>
        <c:axId val="25758718"/>
      </c:barChart>
      <c:catAx>
        <c:axId val="74809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8718"/>
        <c:crosses val="autoZero"/>
        <c:auto val="1"/>
        <c:lblAlgn val="ctr"/>
        <c:lblOffset val="100"/>
        <c:noMultiLvlLbl val="0"/>
      </c:catAx>
      <c:valAx>
        <c:axId val="25758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9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9C1-5609-4331-981B-B9E21BE7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00D-87BD-4BD0-9BC3-E2DFD9A6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7BA-51D2-48E7-BFF9-84BF56F6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7F3-DF4F-4598-92AA-E975A90E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66F-C53E-43E5-AEF1-9764892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A48-A4D7-4942-B78A-5A157B40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3BB-ADCD-4C9E-81E5-B915E64F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BEF-CE5C-4053-9F3B-65988C83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825-4275-4AFD-AFA3-44C9D771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C2C-1C70-4160-AB5E-070CFD6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731-BCA1-4ED0-A36D-2184EE6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185-DAA4-439F-BE66-B2476B82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EA667-4A38-42D6-9901-4C83026C07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