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277417"/>
        <c:axId val="32483796"/>
      </c:barChart>
      <c:catAx>
        <c:axId val="812774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83796"/>
        <c:crosses val="autoZero"/>
        <c:auto val="1"/>
        <c:lblAlgn val="ctr"/>
        <c:lblOffset val="100"/>
        <c:noMultiLvlLbl val="0"/>
      </c:catAx>
      <c:valAx>
        <c:axId val="324837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774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1DBB-CC13-4F37-B622-A66E442A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54A0-D9FF-4BA5-9685-6C011531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8D3B-A82E-4B91-92B2-B01E385E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F788-EF43-4C8F-AE53-2933E449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7960-29AA-4EDF-B706-DAC938FB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03A0-A5DB-48C4-9EE0-5E7B6B0D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69B8-C352-47D0-A35D-B989D366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B9D8-F5F4-4B92-8B41-3D85DD89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621E-36CB-4AF4-B355-6877E649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AACD-9B28-43E0-8F7D-BC1C12E6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9260-BF78-4FED-8DC5-E9989654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B132-0586-480F-9841-964464E4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85F23-3C10-4BA0-AC2B-F1D36172C0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