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77310"/>
        <c:axId val="78196265"/>
      </c:barChart>
      <c:catAx>
        <c:axId val="60077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96265"/>
        <c:crosses val="autoZero"/>
        <c:auto val="1"/>
        <c:lblAlgn val="ctr"/>
        <c:lblOffset val="100"/>
        <c:noMultiLvlLbl val="0"/>
      </c:catAx>
      <c:valAx>
        <c:axId val="78196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77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E79-84B3-41E2-8825-82724F56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E45-E588-462B-8564-EEFB797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5FD-286B-46AC-873F-1801F46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AE8-4EC1-449A-B44A-5F312873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FA3-AB21-4CF8-8928-0257934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BCC-1AA4-4BFB-87B8-36D97B9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CCF-5C44-4A8C-9CC9-2DBFA2F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36E-7904-4DEE-9246-2FEB902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2DC-EE74-4AAE-86D0-830EDF2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B9D-9A56-4E4B-86AB-4C5D578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C54-E35F-4303-B767-CA1C36F7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630-2D07-4C25-B615-2E3651B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FD49-77E1-4B26-AE2A-4C3B46EA0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