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27738"/>
        <c:axId val="81444545"/>
      </c:barChart>
      <c:catAx>
        <c:axId val="16127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44545"/>
        <c:crosses val="autoZero"/>
        <c:auto val="1"/>
        <c:lblAlgn val="ctr"/>
        <c:lblOffset val="100"/>
        <c:noMultiLvlLbl val="0"/>
      </c:catAx>
      <c:valAx>
        <c:axId val="81444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27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D18-B5EA-4DF7-A3A6-2A20900F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B6CD-F449-4478-A7F3-C98CDBB6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BAB-2A48-4B18-8950-94D4A560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0AA-04EB-4585-B264-6773CE80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F3D-7C94-4A6A-8CD7-E7DD0D4E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815-BF0E-498E-B488-C72E4278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8A0-2289-460D-9C10-DCD949A4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A6B-4E70-498B-AB63-EE486FD5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DD9-562D-458A-BD59-E1ABBD16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F03-E573-41E8-A429-21C51CE3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6515-6FF9-459D-B028-6EBC5C25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4175-A5CE-49A8-BB89-67E73F05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31EB5-FDF5-44BE-8EEB-B4E85E896C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