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7147271"/>
        <c:axId val="17300455"/>
      </c:barChart>
      <c:catAx>
        <c:axId val="271472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300455"/>
        <c:crosses val="autoZero"/>
        <c:auto val="1"/>
        <c:lblAlgn val="ctr"/>
        <c:lblOffset val="100"/>
        <c:noMultiLvlLbl val="0"/>
      </c:catAx>
      <c:valAx>
        <c:axId val="1730045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1472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3483A-FF76-42E4-B0B9-B32846D7F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9DAE0-8B6D-4091-9F3F-F510573AE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E4F5D-BF0C-4CCA-AEE4-063AE03FD9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6FA1-D9A9-4032-8762-368A986D4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ED557-59B0-41D8-8671-F8E6C80F95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26625-BCA8-42EF-BBC4-6BE2C37ACA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0A5A-143B-48F9-BA72-6DAC5984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4252-6043-4DA2-ADD0-95A5ECA2B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A6022-ED78-4FF7-A4FA-EFBA6D922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07405-5CA2-4F5E-BABD-41CF2A0B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085C3-BA6E-41C1-9EC5-45D61BA5E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0113-98CB-4D03-8BBB-385925DA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A4739D-F47B-4CB9-811E-D3EC9CC2C1E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