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56231"/>
        <c:axId val="34226383"/>
      </c:barChart>
      <c:catAx>
        <c:axId val="39256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226383"/>
        <c:crosses val="autoZero"/>
        <c:auto val="1"/>
        <c:lblAlgn val="ctr"/>
        <c:lblOffset val="100"/>
        <c:noMultiLvlLbl val="0"/>
      </c:catAx>
      <c:valAx>
        <c:axId val="342263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56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FFC0-D217-4B25-B9CA-48540078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F32-7D2A-421E-B559-2811BC62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276B-36E2-4568-B180-2D8D7DC6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332-E6E3-459E-B89A-E67B6A0A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15F-1A92-4471-80BA-A1691BAF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92A8-BDA7-4BB5-BCE5-EE3E6897D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5C61-FC8B-40DE-8BEE-93C16C90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D49-71F5-4D7D-A207-7084430B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C95E-F873-4E6A-85A2-7B22AEC0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762A-79E6-47F4-A78B-4F4FB638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FE3-28B9-458C-B634-4D8E5CC9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BE5-D7CD-47BC-B041-2AD02024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D315C1-1DC3-4574-BCCD-01CD9BE803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