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80887"/>
        <c:axId val="78394575"/>
      </c:barChart>
      <c:catAx>
        <c:axId val="55380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94575"/>
        <c:crosses val="autoZero"/>
        <c:auto val="1"/>
        <c:lblAlgn val="ctr"/>
        <c:lblOffset val="100"/>
        <c:noMultiLvlLbl val="0"/>
      </c:catAx>
      <c:valAx>
        <c:axId val="783945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80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400-F95C-475C-9E60-7572A198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132-CFF3-4285-960F-0E2A95CF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BBE-C9DA-4DE6-9EF0-8F315805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A07C-B271-494B-B64C-E9098807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278-A169-49E6-A27F-3CEF27E8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874-FCA4-418B-B6E9-2F497C30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B5A5-4E71-4BB2-A397-C53858F2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E71C-2497-4315-9CD8-4E584DC7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D7F-ACB2-4354-B97E-D826A449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054-DFEA-4B8A-BA6D-855E09D9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2C3-51FF-41F3-B0A7-6B118E2D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363F-A9EE-4328-A52B-61D41324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54133-52DA-44D6-AFA6-31B406BC7C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