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91933"/>
        <c:axId val="34886020"/>
      </c:barChart>
      <c:catAx>
        <c:axId val="12791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6020"/>
        <c:crosses val="autoZero"/>
        <c:auto val="1"/>
        <c:lblAlgn val="ctr"/>
        <c:lblOffset val="100"/>
        <c:noMultiLvlLbl val="0"/>
      </c:catAx>
      <c:valAx>
        <c:axId val="34886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91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4BB-43C1-4F2F-A1CA-62AC3837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095-29BE-40CB-828B-EECFCFA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128-8A61-4866-9A65-F07E83ED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6B2-7299-4078-BA0F-3778D859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D3F-035F-4E39-AFB6-A56EEDB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85D-5D8F-43AE-A7A0-5E8F87F3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ACB-3501-4F75-B081-C4CCA07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177-8737-4113-A0F0-6544A13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472-10CC-4B88-9A3F-71D51F6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5C9-422F-4391-B61C-3BA0FAF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D15-8FFC-43AA-95CF-86621564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124-1E72-495D-8744-0B1426D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99FF-B3E0-4453-A292-26A975C9A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