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280482"/>
        <c:axId val="90743708"/>
      </c:barChart>
      <c:catAx>
        <c:axId val="982804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743708"/>
        <c:crosses val="autoZero"/>
        <c:auto val="1"/>
        <c:lblAlgn val="ctr"/>
        <c:lblOffset val="100"/>
        <c:noMultiLvlLbl val="0"/>
      </c:catAx>
      <c:valAx>
        <c:axId val="907437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2804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DB7A-E3A0-4FC8-A504-AC7BC0AC6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98ED-8FC0-4285-8B77-7F0B1ACAE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9A87-C8FF-4A76-A88D-08DA6AB17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7D5E-53D2-45EC-BFE9-485FCE522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A541-7434-449A-9E84-099F5CF88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3B75-F93D-44CC-86F9-C0EEDA07F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6F21-0245-446F-A810-1482CF4BF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4DAD-BE7C-47F7-B48E-34821AA65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4B97-CC29-4341-BD63-E191FB80B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2A3C-BD50-4B51-8858-40CEEE758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40E9-575D-4348-A6C6-3E46D71C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8186-703E-4D09-A573-F5937898D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7960A1-411A-405A-BD6E-44AD2193E8D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