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66740"/>
        <c:axId val="15426396"/>
      </c:barChart>
      <c:catAx>
        <c:axId val="751667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26396"/>
        <c:crosses val="autoZero"/>
        <c:auto val="1"/>
        <c:lblAlgn val="ctr"/>
        <c:lblOffset val="100"/>
        <c:noMultiLvlLbl val="0"/>
      </c:catAx>
      <c:valAx>
        <c:axId val="15426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667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2E5-20AF-469E-8C31-AFED1C87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EB5-4CA8-476B-B8E4-DC1B5C9A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662-27A7-4FE7-BFE0-CC14D666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4BF-3624-4B24-A232-F46819A6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167-32E1-4479-95A2-3DB10A5D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F74-6B30-42A0-9D34-9CA49B22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754-2051-40CB-8499-38BDDA93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AFA-A29D-4631-BC88-5751D600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7D8-A1AE-46F5-824E-067BDEC2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DCA-C851-42E2-A522-F04F2379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BEE-F764-4C92-9DF7-2092C1EC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B93E-0902-431E-903D-B7D77E09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943C1-3001-40FE-A223-55444AEFD7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