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215737"/>
        <c:axId val="51040324"/>
      </c:barChart>
      <c:catAx>
        <c:axId val="862157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040324"/>
        <c:crosses val="autoZero"/>
        <c:auto val="1"/>
        <c:lblAlgn val="ctr"/>
        <c:lblOffset val="100"/>
        <c:noMultiLvlLbl val="0"/>
      </c:catAx>
      <c:valAx>
        <c:axId val="510403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2157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D1AB-0BD8-494C-A00E-CBA759527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6724-7C90-421D-AB3A-A506342E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FB4C-83BC-4AA1-AD1C-E547D2C4C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825E-EADF-4A05-8706-62E7136BF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0717-ED3D-4C71-91F4-82E395A9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B477-F5E6-4F31-A27B-A39436F9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6D4C-155D-441B-A41F-7E987317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201E-F6A1-43C6-AC5B-BB2CAD3D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6E0E-F370-4E04-8050-8A469109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EE2E-66BC-4241-A6FF-DFBF30B5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3787-1E66-4EC9-9992-E2BB739B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0B26-7367-40F9-97B9-AC8C314E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F308D7-0B96-426C-9499-1911D81A41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