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19548"/>
        <c:axId val="49668964"/>
      </c:barChart>
      <c:catAx>
        <c:axId val="60619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8964"/>
        <c:crosses val="autoZero"/>
        <c:auto val="1"/>
        <c:lblAlgn val="ctr"/>
        <c:lblOffset val="100"/>
        <c:noMultiLvlLbl val="0"/>
      </c:catAx>
      <c:valAx>
        <c:axId val="49668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19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C8F-07DD-4651-9198-A4A29822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F21-D651-4F2B-8C36-3F4E9B91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4C3-8472-4B86-B119-100A0920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483-449A-469F-885A-BB1A3090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435-430C-453D-8456-22530C6F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CD5-D1FD-472F-8D19-A5CBDFBE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C3B-A6E9-431E-B79E-26C77C87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4E4-B785-4839-B607-232C124B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89F-B95B-493A-85A0-B5389804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604-AF7E-47E3-94ED-04428BE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4945-0646-496B-AF6C-D985EB9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38B-AECD-408F-B17E-2525C58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BB90D-E59C-4FA3-BDB6-C833CA9D7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