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21794"/>
        <c:axId val="28044234"/>
      </c:barChart>
      <c:catAx>
        <c:axId val="47321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44234"/>
        <c:crosses val="autoZero"/>
        <c:auto val="1"/>
        <c:lblAlgn val="ctr"/>
        <c:lblOffset val="100"/>
        <c:noMultiLvlLbl val="0"/>
      </c:catAx>
      <c:valAx>
        <c:axId val="28044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21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05F-1A06-4D6A-A1BA-96522370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1D2-EF26-486F-B76C-768B027F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EA8-2602-4413-AF41-F0EF1DCA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4C7-A524-41BC-80E8-326BC80E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F2C-37C2-4EEA-B457-60C75EC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0B8-A0B8-48D2-9FE6-BDEE552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9BD-CAEC-45D6-A17F-43119780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61F-C8A1-448A-95C1-F3368F3C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F55-05DB-4F21-9D55-EB0C2621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9F2-E057-42AD-BDD9-CF16B86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2D7-8939-4793-A12E-3058E3D5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F97-7747-4EFD-86A0-1318060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99830-D7A4-4FF5-9C29-DDCE40A45D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