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04553"/>
        <c:axId val="10855740"/>
      </c:barChart>
      <c:catAx>
        <c:axId val="15604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55740"/>
        <c:crosses val="autoZero"/>
        <c:auto val="1"/>
        <c:lblAlgn val="ctr"/>
        <c:lblOffset val="100"/>
        <c:noMultiLvlLbl val="0"/>
      </c:catAx>
      <c:valAx>
        <c:axId val="10855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4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C68-0F00-4B8B-940A-A555B800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A44-752E-4E5F-8FA8-5C447AB3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FEF-8D54-4507-A87B-9CB28115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0B7-DF32-46B1-8D96-66021FE5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E29-99F1-47ED-A9C1-CC65C70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0E0-4D37-426E-BE2F-1286F234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DA9-0E21-409A-BC20-B98B29F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4E1-288C-47A4-97AB-A78CCEF3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925-7A05-416C-92DF-30955F0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9F7-3BBC-46B2-9909-2BADAE2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150-1468-4F04-8765-2CD35A0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24F-4DDA-40E9-93BB-64619CC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509DB-D2E4-4FC8-82DA-1E2FBA930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