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16177"/>
        <c:axId val="61734193"/>
      </c:barChart>
      <c:catAx>
        <c:axId val="268161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34193"/>
        <c:crosses val="autoZero"/>
        <c:auto val="1"/>
        <c:lblAlgn val="ctr"/>
        <c:lblOffset val="100"/>
        <c:noMultiLvlLbl val="0"/>
      </c:catAx>
      <c:valAx>
        <c:axId val="61734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161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D925-55E7-4D8E-BCF9-E8D79358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D41-3524-42F7-AA93-29B0E9E6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1586-1CE3-4F75-B915-60FA2365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F95-56F0-4F51-96EA-22CED43C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401-A7D7-4440-90CF-F95E72B3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932-1731-4D81-A484-552E967E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329-161B-4A23-9065-A70EC19C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9A04-13BB-4291-BAA0-9AA75A84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9756-C497-4C65-930E-F8D0475B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03D0-EA36-4201-8D2C-4DC9CE57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259-6EC7-488A-9710-8403116A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26F-292A-4EE5-8BC0-04404046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6E03E-0837-485A-A5F9-EE72552E22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