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218940"/>
        <c:axId val="41445953"/>
      </c:barChart>
      <c:catAx>
        <c:axId val="752189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445953"/>
        <c:crosses val="autoZero"/>
        <c:auto val="1"/>
        <c:lblAlgn val="ctr"/>
        <c:lblOffset val="100"/>
        <c:noMultiLvlLbl val="0"/>
      </c:catAx>
      <c:valAx>
        <c:axId val="414459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2189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6A1D-6A07-4A1C-897F-C468AD2FA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750A-3FD3-41C9-9C09-A23C05D08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0938-1082-494B-A606-CF2D408C7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FE62-1EE2-4F59-9C01-462FC7AC0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F50E-1988-4C33-B716-65D080829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C366-4457-421E-A57B-BD4360728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2B41-1C35-4521-B820-77F24D4C6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B89B-BB22-4856-A056-B6EDBF60B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5347-E83D-4102-8363-251B25009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08D1-48CF-46B9-A5B2-7413C40C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38AA-9722-40DE-ABE2-0B6E2A0C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A1AF-0BE0-407B-B07F-57069C80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A38502-324F-4CBA-9B95-240086B7815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