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34563"/>
        <c:axId val="78159874"/>
      </c:barChart>
      <c:catAx>
        <c:axId val="854345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59874"/>
        <c:crosses val="autoZero"/>
        <c:auto val="1"/>
        <c:lblAlgn val="ctr"/>
        <c:lblOffset val="100"/>
        <c:noMultiLvlLbl val="0"/>
      </c:catAx>
      <c:valAx>
        <c:axId val="78159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345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1AA-0700-4ED7-AAB8-36162FA7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ABA-6510-4C53-AA50-46B6EABD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BF87-163E-42D4-AF43-8ACE5733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F3E-3676-4C0F-9C0E-26D8E58E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A92-5079-4DD1-B5B1-1D592AFC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8F3-5372-42E5-A7DB-6AC50C75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9F6-50DE-44E5-B478-6814D8C6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A1CC-9771-4563-BD3F-27C1CD3C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BC9B-362C-4E45-99FD-832B1ACD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AA6-9FE8-41E2-845D-94B66C43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21B-96F8-41F2-A968-77DCD80C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C164-D373-4611-94BB-3AF1BF6D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3D7B1-E5F5-4ED2-81EE-BA5697CE0D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