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933147"/>
        <c:axId val="11847191"/>
      </c:barChart>
      <c:catAx>
        <c:axId val="169331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847191"/>
        <c:crosses val="autoZero"/>
        <c:auto val="1"/>
        <c:lblAlgn val="ctr"/>
        <c:lblOffset val="100"/>
        <c:noMultiLvlLbl val="0"/>
      </c:catAx>
      <c:valAx>
        <c:axId val="1184719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9331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D0D8-1B1C-4FE1-8A0A-8550BF983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2CAF8-FCFA-42D9-B0E3-74FA628CF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605A-33D4-4D89-98AF-1101B7324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CBB-E47A-4484-8F25-AAF3A67FC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03C9-A9BE-473B-A43A-8F18007BF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A780B-3EEE-475A-9B11-FDCE1F70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2614-13D1-4B04-BF34-CA332B124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311-9F8D-43E1-A711-1616B35D7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DB29-8458-444A-B169-33538E585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D5C2-7FAC-4105-B3D6-BFC7A180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B681-DBEA-479B-9A68-6F27C382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11A-651C-4B54-AE35-9C382E9EE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C4751-23BD-4838-BD12-697DB311FC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