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8850629"/>
        <c:axId val="96324793"/>
      </c:barChart>
      <c:catAx>
        <c:axId val="1885062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324793"/>
        <c:crosses val="autoZero"/>
        <c:auto val="1"/>
        <c:lblAlgn val="ctr"/>
        <c:lblOffset val="100"/>
        <c:noMultiLvlLbl val="0"/>
      </c:catAx>
      <c:valAx>
        <c:axId val="9632479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85062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05EB4-995A-4CAC-ABCB-199CCA8CB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91DDC-1C8F-41FA-90E6-83595AD79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FF2E2-ED0C-4466-934A-37D135C67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D61E1-BB29-4C24-9DBD-3EEAF03A7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6DB60-5CB5-44E4-9F1C-86931D8F4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10F02-9B56-44EC-889E-F053453B5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6AAF0-ED42-4E8C-83B2-1258025C5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B7471-1D54-4F7F-AA8F-F55AF2A43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8C28E-B11A-428A-8065-B7D8EAAA6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863D8-E56F-4B07-A9BB-68A32DEAD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7C824-FE1D-451C-BDE4-B300DEE63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B6E2F-DB48-4CAA-A6DE-1CB3A753B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D64213-49FF-43E7-BB12-0A29A53CD1C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