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25034"/>
        <c:axId val="77216896"/>
      </c:barChart>
      <c:catAx>
        <c:axId val="38525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16896"/>
        <c:crosses val="autoZero"/>
        <c:auto val="1"/>
        <c:lblAlgn val="ctr"/>
        <c:lblOffset val="100"/>
        <c:noMultiLvlLbl val="0"/>
      </c:catAx>
      <c:valAx>
        <c:axId val="77216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25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221-C163-4E40-9177-529F8917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CA9-32D6-4D22-AF26-BA76511E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0BC-97BD-49A9-A44D-7232D27C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E0C-E874-4EA0-9F6E-6A88E419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BB2-CCC4-4037-B4F2-40038CB4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791-AB3B-46F7-9A7C-AAD5AB30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70C-87BF-4D6B-BE37-DAD7779B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506-A68D-4E72-9A9A-024D93F5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B6B-738D-457C-88EE-45B04C21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34C-FA23-44B3-9833-5C191987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9E6-1791-40AB-B241-F3233DD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A1A-3846-4EDD-B584-F3EAC75B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E66F0-773E-4C68-866D-712A84498E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