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038947"/>
        <c:axId val="84425722"/>
      </c:barChart>
      <c:catAx>
        <c:axId val="720389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25722"/>
        <c:crosses val="autoZero"/>
        <c:auto val="1"/>
        <c:lblAlgn val="ctr"/>
        <c:lblOffset val="100"/>
        <c:noMultiLvlLbl val="0"/>
      </c:catAx>
      <c:valAx>
        <c:axId val="844257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389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F1B6-9800-4A61-A1B5-E344B04D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3B68-A540-467C-B8D2-DBFDEDC8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057C-9A6A-4570-A27A-41E1227D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26A0-72DD-4A8D-9A88-F0E5275C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7FAF-1071-476A-8101-FFCE75D1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F0B0-3903-42CA-93DA-2AEC6647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4815-FABE-469C-9F8B-D4B1857B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536B-DE32-4DB3-A40B-928EBDDC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7576-D6FF-44A6-833D-271E7FD4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137-A3B5-4E5A-9EDE-BDCA823F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3B5B-52CB-4740-A5B0-FE7AB2CD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A857-D6ED-4961-A7E1-329FFC87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B38D5-BFC7-48DC-9221-60F118B1A9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