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603851"/>
        <c:axId val="22595383"/>
      </c:barChart>
      <c:catAx>
        <c:axId val="146038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95383"/>
        <c:crosses val="autoZero"/>
        <c:auto val="1"/>
        <c:lblAlgn val="ctr"/>
        <c:lblOffset val="100"/>
        <c:noMultiLvlLbl val="0"/>
      </c:catAx>
      <c:valAx>
        <c:axId val="225953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038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EAC3-6EAD-4734-B889-3E0F3793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9AFA-679E-4327-BC7C-D578E599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E071-22AC-4644-905F-DB52E6322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540-6143-4793-8DD0-41492324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F66F-5AE7-499E-8B56-4ACA13C9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47A7-B1B2-415B-BCA6-21BBD079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3AEC-5DA4-471B-85DC-D1424C8F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A876-5695-4C3A-9A71-4036E7ED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9601-68AB-4102-AFFB-A9605A98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D4B1-73EE-46FE-ADC3-0DC42973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BFA2-7761-4ED6-BAE6-47DD0ADE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A0F7-48FE-4AA1-A06E-FF58B7BC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964F2-98E6-493A-B533-2A1A445846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