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72044"/>
        <c:axId val="94021498"/>
      </c:barChart>
      <c:catAx>
        <c:axId val="81072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21498"/>
        <c:crosses val="autoZero"/>
        <c:auto val="1"/>
        <c:lblAlgn val="ctr"/>
        <c:lblOffset val="100"/>
        <c:noMultiLvlLbl val="0"/>
      </c:catAx>
      <c:valAx>
        <c:axId val="94021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2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C00-8B96-4BF0-80B6-0DA0922F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8A3-9B74-4230-9513-0DD7E111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84D-DD28-4B37-A0FE-432DCE14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E5A-C601-4922-9F76-B5EA493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7D4-3108-46AC-96D6-A0CAAF9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DB3-0B33-4060-853A-CAA378B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6F6-28FB-4275-A425-4D5BBB1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E29-3A59-4BD5-ADBD-4336A7E7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7CD-C957-4CBD-AC4C-95A784E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7FF-B07B-4005-8A08-2CEFACC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D7D-40B3-4CA8-8336-C00CD12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F5B-7302-4E5F-9E90-23F25EA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BC95-B74B-41CE-9C57-17B21354A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