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4828"/>
        <c:axId val="29334237"/>
      </c:barChart>
      <c:catAx>
        <c:axId val="2954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34237"/>
        <c:crosses val="autoZero"/>
        <c:auto val="1"/>
        <c:lblAlgn val="ctr"/>
        <c:lblOffset val="100"/>
        <c:noMultiLvlLbl val="0"/>
      </c:catAx>
      <c:valAx>
        <c:axId val="29334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4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8FC-96BB-415D-9E3F-A44C2480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66A-1E37-47D1-8698-31BACCEA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07A-FAE5-44FB-9DB6-3642697E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5A7-2105-41A7-AF14-04A6DD0E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E0B-F618-4C04-8FD4-8778281B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30D-AE0D-4BBA-9C63-1EE3671D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EAB-D6D6-4F87-B44B-DA5EFDBD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628-60BD-4650-BC12-53732A27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E61-06D5-40E6-B3E4-C989B9C4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44C-3C97-44B0-AD31-36D04EF9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90F-76C8-4CDC-B375-642864AA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BFF-13C4-4BE8-AA36-8FD04E36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E96F3-D586-44A7-85B4-3E12DF778B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