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86679"/>
        <c:axId val="47479375"/>
      </c:barChart>
      <c:catAx>
        <c:axId val="80486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79375"/>
        <c:crosses val="autoZero"/>
        <c:auto val="1"/>
        <c:lblAlgn val="ctr"/>
        <c:lblOffset val="100"/>
        <c:noMultiLvlLbl val="0"/>
      </c:catAx>
      <c:valAx>
        <c:axId val="47479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86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812-4D8A-4389-8DC2-7E87457B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449-34A5-4DC7-825B-5320C4E6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336-E629-4E41-A857-DBFE0D3E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DB7-3AEB-4EC8-BF6A-98297B3A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781-E810-4218-9ABF-F076715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C8C-6594-4D58-872E-15946BAA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5DD-7798-44C0-9F13-2D783359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D4B-0872-4B53-842A-6ADD8B86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B0F-9860-4194-81B6-CAF321E0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D51-4EB1-45C4-9B6F-B2B5AD1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3B9-7D8F-46D7-8B01-FDD1C22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9BB-3F9A-4529-910B-9A1DDDF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45295-106E-44D5-B1F8-B6F64FA2D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