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01520"/>
        <c:axId val="12740559"/>
      </c:barChart>
      <c:catAx>
        <c:axId val="88901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40559"/>
        <c:crosses val="autoZero"/>
        <c:auto val="1"/>
        <c:lblAlgn val="ctr"/>
        <c:lblOffset val="100"/>
        <c:noMultiLvlLbl val="0"/>
      </c:catAx>
      <c:valAx>
        <c:axId val="12740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1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86D-4382-4433-BCB1-783CA2FB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CE7-29EF-45F8-B7F1-304358C1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488-7CC1-40C1-B46D-B6158EE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B57-3C7D-4632-9F7F-65CE50EA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C9D-875E-4DB9-A4C9-5B6C476C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CF5-3213-4AE1-8D9B-1A81B1F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167-6A1C-41BF-A9F1-CBD40F7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5D6-A7C1-4283-B471-F159800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9F9-D839-425C-B6DC-E60530E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CE9-318C-49DE-935B-FC4E1778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763-082C-4FA7-B8C6-06CF5B6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307-55AB-4F93-83F5-9A331E5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5FAEF-A408-4B51-84A4-36D139C3C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