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17594"/>
        <c:axId val="15847567"/>
      </c:barChart>
      <c:catAx>
        <c:axId val="93817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7567"/>
        <c:crosses val="autoZero"/>
        <c:auto val="1"/>
        <c:lblAlgn val="ctr"/>
        <c:lblOffset val="100"/>
        <c:noMultiLvlLbl val="0"/>
      </c:catAx>
      <c:valAx>
        <c:axId val="15847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17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88B-E1C3-4181-9106-35A4CC08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1FD-D29F-4873-A47F-CDD73A8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CA7-8696-482E-9BEC-F8486978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DBC-17B0-4B8F-A29D-D94B41CD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108-786B-4FA6-9670-0A5765D2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A2F-C5DD-4E8D-A317-531433D5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591-2B1A-4898-84CF-A43719C9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435-5360-4DAE-A426-07BFFD5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888-6045-4636-9F62-E5A2FF1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FF5-364D-42A4-A098-F0663AC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03F-1363-4AC2-963B-9AEBF22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1D5-B33A-488F-895C-FAD535F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76B2D-7E7B-473C-9C13-1EBCEB491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