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10472"/>
        <c:axId val="13938980"/>
      </c:barChart>
      <c:catAx>
        <c:axId val="64210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38980"/>
        <c:crosses val="autoZero"/>
        <c:auto val="1"/>
        <c:lblAlgn val="ctr"/>
        <c:lblOffset val="100"/>
        <c:noMultiLvlLbl val="0"/>
      </c:catAx>
      <c:valAx>
        <c:axId val="139389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10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3A3-2CCA-4A21-AC90-063E871D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69C-15FD-49C9-884F-37237843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855-6DD2-4FE5-B128-3367E06C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5ED-9ADB-47C6-A486-442317DA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A5A-52C0-43A3-9776-1632BE44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50B-56C9-4421-BC6F-5E0F5B18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4027-DD7E-48A2-8C58-64370DD5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ADF-3BD5-4882-A8B0-BCDE2E36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5BA5-DBDD-4ABA-BFE9-78FA0C10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60A-825E-4FF9-8421-00978910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938-B8C9-463F-8820-AF49A8FB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6FC-F2A2-4F72-AC89-10A0B964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B4C01-445C-4C27-92B9-1336CAD332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