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4568"/>
        <c:axId val="51958881"/>
      </c:barChart>
      <c:catAx>
        <c:axId val="4384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58881"/>
        <c:crosses val="autoZero"/>
        <c:auto val="1"/>
        <c:lblAlgn val="ctr"/>
        <c:lblOffset val="100"/>
        <c:noMultiLvlLbl val="0"/>
      </c:catAx>
      <c:valAx>
        <c:axId val="51958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4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426-E10A-4777-ACD3-EBA40318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662-4F7C-4AF3-A3F0-328828E2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7ED-FF3C-4662-9300-AF51D7B5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33B-0FFB-4F26-8304-66C02548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E41-B8E2-4DE7-98A9-65E140B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EB1-2212-486D-97C3-F11CF9D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A87-53A3-4664-8361-85A1222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BB-2864-4C8D-95E0-056DCDA2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B6A-5E4E-4E2B-9E8E-01F18E9E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099-9C1C-4498-B1FA-85401A6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5AB-2FFC-4939-A29E-B0B8467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82A-2B73-4AA5-9A9B-0B95B53D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641F5-D4EB-467D-9B95-A8CF91EAD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