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923825"/>
        <c:axId val="86619961"/>
      </c:barChart>
      <c:catAx>
        <c:axId val="12923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19961"/>
        <c:crosses val="autoZero"/>
        <c:auto val="1"/>
        <c:lblAlgn val="ctr"/>
        <c:lblOffset val="100"/>
        <c:noMultiLvlLbl val="0"/>
      </c:catAx>
      <c:valAx>
        <c:axId val="86619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23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EA9A-F5AA-410B-A9D6-7C4D2942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AFA-E52B-425E-A4B8-FE4C5C97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8F8F-779A-47F9-B60B-5151D9EB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A8AA-A323-4690-94AA-1A7D4221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95C-553A-4537-BBCF-F8A6CCF9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8AE-E1A5-47EF-8D9A-C5087673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825D-E102-470A-BB2C-0C055121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B956-8220-4CBA-8605-A7B729C0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5771-5413-4532-9B20-E203F910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1B0B-9593-4B59-9FC1-DC854EF7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1ADE-F075-40B8-ABC2-371C51E0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E2BE-7CEA-49B9-A2B1-F86BCB38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B0499-6414-4218-B221-B347EC48BF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