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34140"/>
        <c:axId val="33071299"/>
      </c:barChart>
      <c:catAx>
        <c:axId val="49134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71299"/>
        <c:crosses val="autoZero"/>
        <c:auto val="1"/>
        <c:lblAlgn val="ctr"/>
        <c:lblOffset val="100"/>
        <c:noMultiLvlLbl val="0"/>
      </c:catAx>
      <c:valAx>
        <c:axId val="33071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4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2B1-9477-47B4-9C7E-0B922B78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D19-8605-4814-9E70-06FE0F7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D48-D775-477D-B184-71373890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D6F-314E-4DAB-AFB8-AFB050F6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55A-FF70-4678-9A84-6578C1E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40B-2339-443F-B480-B697D30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8FC-87CF-48A3-803A-DBF7442C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9DD-D6E7-4849-A73A-A43C86E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68C-E484-403C-915A-3AFE8A0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56C-A836-41EF-A5A6-E8BCDB98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9C4-FF6B-4AED-A620-8B23BA0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C7A-A71D-4B22-A597-C4F5A93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BF027-D909-4B20-8576-0ABDF3839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