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68370"/>
        <c:axId val="14020926"/>
      </c:barChart>
      <c:catAx>
        <c:axId val="13568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20926"/>
        <c:crosses val="autoZero"/>
        <c:auto val="1"/>
        <c:lblAlgn val="ctr"/>
        <c:lblOffset val="100"/>
        <c:noMultiLvlLbl val="0"/>
      </c:catAx>
      <c:valAx>
        <c:axId val="14020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8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2E1-6160-4C08-9B4B-760A4F6D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F4D-A432-4498-8BEE-A0FD4C69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CA6-120E-482E-8FD0-A907332D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563-2E8C-4993-9ECD-E03A8CD0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BAD-B6F0-4CE4-88F7-749F26C7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05A-A9EE-460E-BCAB-76109F49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995-1AE2-45AD-BC52-4B03B546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494-08E5-426E-8009-8C1CAC14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F01-65CA-488E-9547-F5E801FB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488-9265-4B4B-94AD-0EB57A9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4A9-FAF6-4C82-9DEC-EA4B0EB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58E-184E-4951-84E3-2FC58A9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ABFA7-EA49-47BC-9025-6A9035DBA1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