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826599"/>
        <c:axId val="7530014"/>
      </c:barChart>
      <c:catAx>
        <c:axId val="91826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0014"/>
        <c:crosses val="autoZero"/>
        <c:auto val="1"/>
        <c:lblAlgn val="ctr"/>
        <c:lblOffset val="100"/>
        <c:noMultiLvlLbl val="0"/>
      </c:catAx>
      <c:valAx>
        <c:axId val="7530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26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A22D-A2A0-48B1-9F79-CD625A3C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E8B5-F93F-4011-AB8D-9E8E58A3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C6A6-3E03-4FAE-999E-BAB9F9A7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F041-551E-45D6-9C51-AAD8DF36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3983-CFB9-41F0-8B82-63CC4DB5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6CE-6851-4A25-AB87-C926776E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828E-5283-478E-BBE8-A940D275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BF9C-2847-428F-8D21-AFD1E420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C85-D698-4B3B-B3E5-06F6AD30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532B-478E-460E-9F79-75774896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BF3-D800-4CC5-83E3-29FA8291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58D-C70E-4B2C-97E7-2E5D2FEC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EC44E-3042-4CD4-B4A9-E5CAE9BA43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