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3274"/>
        <c:axId val="43192545"/>
      </c:barChart>
      <c:catAx>
        <c:axId val="1913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92545"/>
        <c:crosses val="autoZero"/>
        <c:auto val="1"/>
        <c:lblAlgn val="ctr"/>
        <c:lblOffset val="100"/>
        <c:noMultiLvlLbl val="0"/>
      </c:catAx>
      <c:valAx>
        <c:axId val="43192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3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75E9-8804-4B7A-952F-EDD948C2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8E8-A143-4866-9EB1-2A029C05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80A-FF93-4E25-B8F2-581BBD5F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CC21-E655-48D6-87A2-8BAEF06C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2D41-6498-438B-A19E-B37BF367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5CF8-7A72-4A20-B661-69973C75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8441-5711-40CB-AAB4-9114F8DE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0BE9-5B5D-4464-BA7F-10C5A2EF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95D4-C51A-47C6-9B01-0E1D2F27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E28E-3135-4CE3-84F1-023105A9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C401-B60D-4A28-978E-6E8EF2CA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31FF-CC6A-49F9-BCA8-3C5252A4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162CC-31BB-480A-8138-A3B3A232A4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