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14904"/>
        <c:axId val="65072568"/>
      </c:barChart>
      <c:catAx>
        <c:axId val="95214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72568"/>
        <c:crosses val="autoZero"/>
        <c:auto val="1"/>
        <c:lblAlgn val="ctr"/>
        <c:lblOffset val="100"/>
        <c:noMultiLvlLbl val="0"/>
      </c:catAx>
      <c:valAx>
        <c:axId val="65072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14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DE0-7290-4EE2-B14C-05A0B032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89E-8818-42CF-A5D7-5ED5C2C9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536-0648-4B73-9463-FAEB8EA6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BB8-AE7C-4B9D-B241-838B01E2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998-5B18-4DF5-92E8-87FB45BD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3DE-7F07-429A-A8FC-6E0005F6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8EA-A9C0-4109-B3AC-7BC5D4DD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7DB-73B2-4DEE-AD11-AF200271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442-3F97-46AE-917E-4E971D53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E7A-AEAF-4BD0-952C-3EAEC3B1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EA8-0FCA-49F7-85EE-A8026611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879-5330-49F0-8178-32B1E32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E09A5-0F3D-439F-B8E4-4667C78BB1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