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86844"/>
        <c:axId val="6207118"/>
      </c:barChart>
      <c:catAx>
        <c:axId val="88684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07118"/>
        <c:crosses val="autoZero"/>
        <c:auto val="1"/>
        <c:lblAlgn val="ctr"/>
        <c:lblOffset val="100"/>
        <c:noMultiLvlLbl val="0"/>
      </c:catAx>
      <c:valAx>
        <c:axId val="620711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8684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80755-B12C-49E7-8845-F7B43D5D9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C6487-7C50-4B62-9EC4-F1D091DCE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7D31E-7585-45AE-9C71-276040919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0F886-6D59-4272-AA35-2DA8C3003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B2BB2-7CDD-4BB9-AC64-AE885C714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40C67-CF2C-4A2B-A4F9-C032661F8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75953-6E8B-4B92-8FA9-3AEB059CD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EE708-AFDF-4B1E-A901-DFA897B5A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456B1-D5A6-41D6-AAF7-3FF4E6A07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9A155-5B41-40B0-A0BA-1D37B17B2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4A99D-1B70-443E-A4C8-60AE29555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1B7F3-E371-46DB-AD27-754B1F5CC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DA2C6A-FA3D-4466-B707-4ED79035D35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