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7004"/>
        <c:axId val="68275000"/>
      </c:barChart>
      <c:catAx>
        <c:axId val="1617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5000"/>
        <c:crosses val="autoZero"/>
        <c:auto val="1"/>
        <c:lblAlgn val="ctr"/>
        <c:lblOffset val="100"/>
        <c:noMultiLvlLbl val="0"/>
      </c:catAx>
      <c:valAx>
        <c:axId val="68275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AC4-605B-4E9E-AD02-7802814D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025-9296-4CEB-93F4-C9030F77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A8D-A5E8-4243-BE5E-D257206F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2A3-BEE1-47C3-ACCD-73224832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CB7-FDB5-419A-BC44-1ABA6F29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64B-8358-428E-A662-40B60439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371-9487-4996-BACC-3DA7EE1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C13-EB35-45E3-903F-08185F1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665-A55B-44A2-8289-33FD6A6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528-8889-44B1-95DE-758D5A3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1EF-9738-44E1-8DCE-5432D34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0E1-CB40-4555-9B81-FB5FFB5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67CF5-173C-4CA0-B8DB-02CC66545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