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90065"/>
        <c:axId val="33501099"/>
      </c:barChart>
      <c:catAx>
        <c:axId val="60390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01099"/>
        <c:crosses val="autoZero"/>
        <c:auto val="1"/>
        <c:lblAlgn val="ctr"/>
        <c:lblOffset val="100"/>
        <c:noMultiLvlLbl val="0"/>
      </c:catAx>
      <c:valAx>
        <c:axId val="33501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90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6B3-9169-450D-A17C-ECE6D43E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C69-6B97-4269-85C3-02E5EE48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6FE-F23C-4280-9C88-B78A3DC8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89C-A6BB-444B-919E-24324EA2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2E1-5167-46CB-B623-4B218FB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5E3-4804-4222-8ABE-724717A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BA1-FCAB-4BAB-A281-13C934F4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B91-0638-4D0F-84C5-85EFC533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EA4-9484-494B-9438-BA85C669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D81-5206-4041-A542-865E485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005-D3D4-4A48-996F-C85955E7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312-9865-4C01-904F-F6FC5B46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E9CF8-9B94-4997-A9FF-7B74959ECA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