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613417"/>
        <c:axId val="44290519"/>
      </c:barChart>
      <c:catAx>
        <c:axId val="946134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290519"/>
        <c:crosses val="autoZero"/>
        <c:auto val="1"/>
        <c:lblAlgn val="ctr"/>
        <c:lblOffset val="100"/>
        <c:noMultiLvlLbl val="0"/>
      </c:catAx>
      <c:valAx>
        <c:axId val="442905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6134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0187-8785-416D-B088-94E948756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CDD0-CE72-421F-8644-63E8A16A4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7F94-DCDD-41E7-82C1-0711D242D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0D1E-C8B8-4535-B68B-3E2543594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92C2-8557-42DD-A8B4-09FD09B08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894E-D6B8-4ECC-8B85-719E739DC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CCB9-1249-4F03-9F17-2F2009884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E8D0-BC99-4BB9-BAFC-4C6A7E856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CCE1-5BC4-410E-ABAF-C4237D37F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2B16-3EE2-4AA7-BE13-060B468B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770F-8043-4ABB-84F3-EB9B5D11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08EC-2C6A-4AAF-A400-6E808D71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7900D7-992D-4DBE-84A3-0C33DA37C54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