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32025"/>
        <c:axId val="4555477"/>
      </c:barChart>
      <c:catAx>
        <c:axId val="32532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5477"/>
        <c:crosses val="autoZero"/>
        <c:auto val="1"/>
        <c:lblAlgn val="ctr"/>
        <c:lblOffset val="100"/>
        <c:noMultiLvlLbl val="0"/>
      </c:catAx>
      <c:valAx>
        <c:axId val="4555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2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B53-2AC4-4CC6-B8CC-0CAEEC9B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9C6-FFAA-44D3-9076-A8182C8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770-E2CA-4617-8F51-9C7AA652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AB4-ECF4-43F5-8618-F16DB3E4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B91-3EBE-48D0-A3A0-455D3F7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120-7FFA-45C0-A01E-9671677F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9FE-B3EF-4AF4-AB23-D3FA0D3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41B-518E-404B-9DAA-AAB7CDA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C92-963A-47E8-A660-C0EAD74E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9CB-4648-4B28-BD28-4AA4375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513-ABB3-4C83-BA26-955D7EB1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667-29DA-4E51-A0E5-5C45791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6D98D-A7A8-44D1-9C86-3B650F211F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