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68942"/>
        <c:axId val="34690756"/>
      </c:barChart>
      <c:catAx>
        <c:axId val="96568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90756"/>
        <c:crosses val="autoZero"/>
        <c:auto val="1"/>
        <c:lblAlgn val="ctr"/>
        <c:lblOffset val="100"/>
        <c:noMultiLvlLbl val="0"/>
      </c:catAx>
      <c:valAx>
        <c:axId val="34690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68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0F9-0B08-48B6-96F5-2534CAB8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AC2-32FD-49E5-84CB-A7F3A73F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770-75F5-482F-B35C-E6AD549A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453-86D5-46EA-AD08-5A36110E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B23-701E-4F63-BF7C-AE354E21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995-300A-48F3-A378-E0093C18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270-C7FF-417C-8AB9-99EABF5F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018-2BEA-49D2-B3C2-A54BA9A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3BC-C7AF-49A2-9E7E-861CB0DE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23B-DF31-4619-9098-9D9B118C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F67-380F-4319-9D44-5506C84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1EA-E0EA-40DF-8959-839776B2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C7D29-4D50-4311-A1BC-9AEC5BBC77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