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7.wmf" ContentType="image/x-wmf"/>
  <Override PartName="/ppt/media/image8.wmf" ContentType="image/x-wmf"/>
  <Override PartName="/ppt/media/image9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CE0DE-8300-4247-84E7-276E33519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96960" y="37292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ACB4E-3B97-4A69-A144-16B9E258C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73184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2A0E1-90BC-440A-8955-D249D2ADE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3591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13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969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3591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13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B163A-8888-4931-AFD3-6F87B3F6C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8bb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96600" y="233280"/>
            <a:ext cx="8196120" cy="283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8bb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8bb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5847F-92E2-4347-B1B9-067D3A05F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73184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96960" y="37292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73184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591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13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969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591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13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8bb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76DF7-7ABF-4E3E-8095-772F67AED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696600" y="233280"/>
            <a:ext cx="8196120" cy="283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8bb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73184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96960" y="37292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73184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3591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213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6969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3591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0213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9616E-74B6-410E-ACD0-466C16F8D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7AA4E-1254-432C-9A24-218378C9A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96600" y="233280"/>
            <a:ext cx="8196120" cy="283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8bb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9074E-F4E9-4644-8E4B-FE8F631B5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20CB3-F707-4D53-8067-F4ABDF4E8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73184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9F4BC-C702-4AC4-921C-15E00FCC4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E1705-20A4-4B17-B71A-BA673FC0A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buClr>
                <a:srgbClr val="008bbf"/>
              </a:buClr>
              <a:buFont typeface="Arial"/>
              <a:buChar char="&gt;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buClr>
                <a:srgbClr val="008bb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buClr>
                <a:srgbClr val="008bb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3122280" y="6613200"/>
            <a:ext cx="143676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8b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8bbf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685800" y="6613200"/>
            <a:ext cx="244008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008bb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008bbf"/>
                </a:solidFill>
                <a:latin typeface="Arial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4482720" y="6613200"/>
            <a:ext cx="46836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008b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67EB2-6439-41EC-B71C-440F39A12650}" type="slidenum">
              <a:rPr b="0" lang="nl-NL" sz="900" spc="-1" strike="noStrike">
                <a:solidFill>
                  <a:srgbClr val="008bb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-1440"/>
            <a:ext cx="9123480" cy="954000"/>
          </a:xfrm>
          <a:prstGeom prst="rect">
            <a:avLst/>
          </a:prstGeom>
          <a:solidFill>
            <a:srgbClr val="a6a6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655040" y="-1440"/>
            <a:ext cx="1488960" cy="95544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5792760" y="-22320"/>
            <a:ext cx="1585800" cy="9748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-14400" y="-27000"/>
            <a:ext cx="9123480" cy="318960"/>
          </a:xfrm>
          <a:prstGeom prst="rect">
            <a:avLst/>
          </a:prstGeom>
          <a:solidFill>
            <a:srgbClr val="00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317520"/>
            <a:ext cx="9123480" cy="317520"/>
          </a:xfrm>
          <a:prstGeom prst="rect">
            <a:avLst/>
          </a:prstGeom>
          <a:solidFill>
            <a:srgbClr val="000000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35040"/>
            <a:ext cx="9123480" cy="31752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317520"/>
            <a:ext cx="9123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0" y="635040"/>
            <a:ext cx="9123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0" y="952560"/>
            <a:ext cx="9123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e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pic>
        <p:nvPicPr>
          <p:cNvPr id="14" name="" descr=""/>
          <p:cNvPicPr/>
          <p:nvPr/>
        </p:nvPicPr>
        <p:blipFill>
          <a:blip r:embed="rId4"/>
          <a:stretch/>
        </p:blipFill>
        <p:spPr>
          <a:xfrm>
            <a:off x="7391520" y="6323040"/>
            <a:ext cx="1573200" cy="311040"/>
          </a:xfrm>
          <a:prstGeom prst="rect">
            <a:avLst/>
          </a:prstGeom>
          <a:ln w="0">
            <a:noFill/>
          </a:ln>
        </p:spPr>
      </p:pic>
      <p:sp>
        <p:nvSpPr>
          <p:cNvPr id="15" name=""/>
          <p:cNvSpPr/>
          <p:nvPr/>
        </p:nvSpPr>
        <p:spPr>
          <a:xfrm flipH="1">
            <a:off x="-360" y="6467400"/>
            <a:ext cx="703260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057400" y="3076200"/>
            <a:ext cx="6618240" cy="8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bb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8bb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0" y="4680"/>
            <a:ext cx="9144000" cy="2548080"/>
            <a:chOff x="0" y="4680"/>
            <a:chExt cx="9144000" cy="2548080"/>
          </a:xfrm>
        </p:grpSpPr>
        <p:pic>
          <p:nvPicPr>
            <p:cNvPr id="54" name="" descr=""/>
            <p:cNvPicPr/>
            <p:nvPr/>
          </p:nvPicPr>
          <p:blipFill>
            <a:blip r:embed="rId2"/>
            <a:stretch/>
          </p:blipFill>
          <p:spPr>
            <a:xfrm>
              <a:off x="0" y="4680"/>
              <a:ext cx="4146840" cy="254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" descr=""/>
            <p:cNvPicPr/>
            <p:nvPr/>
          </p:nvPicPr>
          <p:blipFill>
            <a:blip r:embed="rId3"/>
            <a:stretch/>
          </p:blipFill>
          <p:spPr>
            <a:xfrm>
              <a:off x="6152760" y="319320"/>
              <a:ext cx="2349000" cy="99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1595520"/>
              <a:ext cx="9144000" cy="317880"/>
            </a:xfrm>
            <a:prstGeom prst="rect">
              <a:avLst/>
            </a:prstGeom>
            <a:solidFill>
              <a:srgbClr val="7fa1b6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1913760"/>
              <a:ext cx="9144000" cy="318960"/>
            </a:xfrm>
            <a:prstGeom prst="rect">
              <a:avLst/>
            </a:prstGeom>
            <a:solidFill>
              <a:srgbClr val="7fa1b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2233080"/>
              <a:ext cx="9144000" cy="319320"/>
            </a:xfrm>
            <a:prstGeom prst="rect">
              <a:avLst/>
            </a:prstGeom>
            <a:solidFill>
              <a:srgbClr val="7fa1b6">
                <a:alpha val="7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800" rIns="82800" tIns="41400" bIns="414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414360"/>
                  <a:tab algn="l" pos="828720"/>
                  <a:tab algn="l" pos="1243080"/>
                  <a:tab algn="l" pos="1657440"/>
                  <a:tab algn="l" pos="2071800"/>
                  <a:tab algn="l" pos="2486160"/>
                  <a:tab algn="l" pos="2900520"/>
                  <a:tab algn="l" pos="3314880"/>
                  <a:tab algn="l" pos="3728880"/>
                  <a:tab algn="l" pos="4143240"/>
                  <a:tab algn="l" pos="4557600"/>
                  <a:tab algn="l" pos="4971960"/>
                  <a:tab algn="l" pos="5386320"/>
                  <a:tab algn="l" pos="5800680"/>
                  <a:tab algn="l" pos="6215040"/>
                  <a:tab algn="l" pos="6629400"/>
                  <a:tab algn="l" pos="7043760"/>
                  <a:tab algn="l" pos="7458120"/>
                  <a:tab algn="l" pos="7872480"/>
                  <a:tab algn="l" pos="82868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1913760"/>
              <a:ext cx="914400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2233080"/>
              <a:ext cx="914400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0" y="1595520"/>
              <a:ext cx="914400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" name="PlaceHolder 2"/>
          <p:cNvSpPr>
            <a:spLocks noGrp="1"/>
          </p:cNvSpPr>
          <p:nvPr>
            <p:ph type="dt" idx="4"/>
          </p:nvPr>
        </p:nvSpPr>
        <p:spPr>
          <a:xfrm>
            <a:off x="2057400" y="5803560"/>
            <a:ext cx="6618240" cy="3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8b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bbf"/>
                </a:solidFill>
                <a:latin typeface="Arial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bb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8bbf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8bbf"/>
              </a:buClr>
              <a:buFont typeface="Arial"/>
              <a:buChar char="&gt;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8bb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8bb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-22320" y="0"/>
            <a:ext cx="9166320" cy="64533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rcRect l="0" t="0" r="0" b="9820"/>
          <a:stretch/>
        </p:blipFill>
        <p:spPr>
          <a:xfrm>
            <a:off x="0" y="5791320"/>
            <a:ext cx="9145440" cy="10666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-1440" y="0"/>
            <a:ext cx="9145440" cy="325440"/>
          </a:xfrm>
          <a:prstGeom prst="rect">
            <a:avLst/>
          </a:prstGeom>
          <a:solidFill>
            <a:srgbClr val="000000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-1440" y="325440"/>
            <a:ext cx="9145440" cy="322200"/>
          </a:xfrm>
          <a:prstGeom prst="rect">
            <a:avLst/>
          </a:prstGeom>
          <a:solidFill>
            <a:srgbClr val="000000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-1440" y="647640"/>
            <a:ext cx="9145440" cy="32544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-1440" y="325440"/>
            <a:ext cx="9140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-1440" y="647640"/>
            <a:ext cx="9140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-1440" y="973080"/>
            <a:ext cx="9140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>
            <a:off x="7391520" y="6323040"/>
            <a:ext cx="1566720" cy="30960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31800" y="3505320"/>
            <a:ext cx="8229600" cy="6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11280" y="4149720"/>
            <a:ext cx="8208720" cy="57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0"/>
          </a:bodyPr>
          <a:p>
            <a:pPr marL="34200" indent="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lvl="1" marL="34200" indent="-34200"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lvl="2" marL="34200" indent="-3420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lvl="3" marL="34200" indent="-34200"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lvl="4" marL="34200" indent="-34200">
              <a:spcBef>
                <a:spcPts val="11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lvl="5" marL="34200" indent="-34200">
              <a:spcBef>
                <a:spcPts val="11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lvl="6" marL="34200" indent="-34200">
              <a:spcBef>
                <a:spcPts val="11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057400" y="3076200"/>
            <a:ext cx="6618240" cy="8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8bbf"/>
                </a:solidFill>
                <a:latin typeface="Arial"/>
              </a:rPr>
              <a:t>Flood risk assessment</a:t>
            </a:r>
            <a:endParaRPr b="1" lang="en-US" sz="2800" spc="-1" strike="noStrike">
              <a:solidFill>
                <a:srgbClr val="008bb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2057400" y="4113000"/>
            <a:ext cx="661824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8bbf"/>
                </a:solidFill>
                <a:latin typeface="Arial"/>
              </a:rPr>
              <a:t>Arjen Markus</a:t>
            </a:r>
            <a:endParaRPr b="0" lang="en-US" sz="2000" spc="-1" strike="noStrike">
              <a:solidFill>
                <a:srgbClr val="008bb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8bbf"/>
                </a:solidFill>
                <a:latin typeface="Arial"/>
              </a:rPr>
              <a:t>Deltares</a:t>
            </a:r>
            <a:endParaRPr b="0" lang="en-US" sz="2000" spc="-1" strike="noStrike">
              <a:solidFill>
                <a:srgbClr val="008bbf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8bbf"/>
                </a:solidFill>
                <a:latin typeface="Arial"/>
              </a:rPr>
              <a:t>(previous name: WL | delft hydraulics)</a:t>
            </a:r>
            <a:endParaRPr b="0" lang="en-US" sz="1200" spc="-1" strike="noStrike">
              <a:solidFill>
                <a:srgbClr val="008bb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Modelling system: Hydrodynamics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ine-grained terrain model (100 x 100 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lood simulated using “standard” curves – known for a range of maximum flood r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eriod to simulate: roughly two weeks to three mo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ach simulation takes several days or even weeks to comple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Modelling system: Estimating victims, damage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aps of population density and land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aps of water levels and flow velocities from hydrodynamic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IS-based analy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esult for each indicated area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he number of victi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mount of economic dam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Modelling system: Estimate the risk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Combine the results for all scenari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Risk is expected number of victims or amount of damage – so multiply with probability of occur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Histogram: what is the most likely number of casualti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2411280" y="3645000"/>
            <a:ext cx="381024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Managing the computations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ifferent programs run on different sites or compu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etting up, starting and checking the computations has to be automate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 set of 300 scenar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omputations take too l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cl turns out to be almost perfect for the job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Preparing the hydrodynamic computation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opying the (fixed) input files for each computation to a separate direc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eading the XML file with flood parameters and dike strength parame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etting up the timeseries for the flood wave and adjusting various input fil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[clock], [string map], [file copy] are the tools he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Interlude: some code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oc constructTimeseries {begin series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sobekseries {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begintime [clock scan $begin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offset    [lindex $series 0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oreach {time rate} $series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seconds [expr {int(86400*($time-$offset))}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datetime [expr {$begintime+$seconds}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sobektime [clock format $datetime -format \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"'%Y/%m/%d;%H:%M:%S'"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lappend sobekseries "$sobektime $rate &lt;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# Trick: using a list suppresses an end-of-line at the end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[join $sobekseries \n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Running the hydrodynamic program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cheduling the jobs on the Linux clu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Not too many at a time though (I am not the only us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egistering the statu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as the job started ye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s it finished? If so, successfull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as it been analysed ye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mall files with specific names flag that status (“running”, “done”, “analysed”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cript runs via the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cron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utility – so I keep the system bus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Running the risk estimation program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Copying the result files from the various directo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Adapting the input files for the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Running it in batch mode (it was originally a GUI onl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xtracting the relevant inform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et outfile [open "hisssm-samenvatting.txt" w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et areas {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each file [glob -nocomplain "*-agg.txt"]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{ $areas == {} }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et areas [extractAreaDescription $file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 write header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et scenid  [extractScenarioId  $file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et numbers [extractInformation $file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ts $outfile "$scenid\t[join $numbers \t]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Lessons learned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raceability and monitoring: being able to analyse what went wr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utomate as much as possible: you may need to repeat the exerci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an you run the programs in batchmod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Formal view: tuplespace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ill a database with scenarios (here: the file syste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ach record (scenario) goes through various stag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    –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teps in the chain of individual computa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rdering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between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scenarios is irrelev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cenarios contain status inform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e"/>
                </a:solidFill>
                <a:latin typeface="Arial"/>
              </a:rPr>
              <a:t>The problem: river floods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st rivers in the Netherlands surrounded by dik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ke breaches are a hazard to be dealt wi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kes need to be heigh enough and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strong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oug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is project: comprehensive approac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Formal view: tuplespaces (2)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ach record (scenario) has the following informa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cenario ID (directory name containing all the fil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tatus (not started yet, running, finished, analys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he scheduler program selects a scenario with the right status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tarts the computational program that belongs to that statu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n terms of tuplespaces: a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read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operation – the record is taken ou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f the databa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hen the computational program finishes, a new record is writt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out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operati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Formal view: tuplespaces (3)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n this case the stages of the computation a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reparation: from the XML file to a set of input fi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omputation: flood wave and dike breach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nalysis: has the computation succeede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f success, estimate casualties and dam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f not: identify why no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he tuplespace apprach means the scheduler program needs to kn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nothing of the stage of each scenario. It simply scans the director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Formal view: tuplespaces (4)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ompare this to approaches found in literatu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ormal specification of the computational steps (often via XM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he description of the complete computation needs to be analysed and transform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Loops (iterations) are expan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he scheduler program keeps track of the stages of the comput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 loop in this set-up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imply write a record with the same status, until the stop criteriu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s fulfill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Spin-off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etting up a series of computations is useful (to me) in other projects to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or instance: optimising the location of a waste water discharge in a coastal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ork in progres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arious ways of dealing with a series of compu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ossibility of calibration, not just selecting an alterna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lexibility in defining the variation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Study area (1)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2881440" y="1482840"/>
            <a:ext cx="3504960" cy="43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Study area (2)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urrounded by Rhine and Me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pproximately 2 million peop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everal major c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griculture important asp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Study area (3)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460520" y="1482840"/>
            <a:ext cx="6345360" cy="43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River system behaviour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ike breach can mean: lower water levels downstre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ut also: pressure from the land s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odelling approach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elect locations for possible breach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ompute the water flow in the rivers and over l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stimate casualties and economic damage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Typical result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1154160" y="1482840"/>
            <a:ext cx="6959520" cy="43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Modelling system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1866960" y="1482840"/>
            <a:ext cx="5532480" cy="43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Modelling system: Scenarios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onte Carlo simulation: Setting up the scena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loods have stochastic properties: maximum flow 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ikes vary in strength – parameters known approximately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elec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raw parameters for each lo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elation flow rate – water levels know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stimate: dike breach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esult: 3 x 100 scenarios (for different sets of potential breach locatio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2T04:19:57Z</dcterms:created>
  <dc:creator>markus</dc:creator>
  <dc:description/>
  <dc:language>en-US</dc:language>
  <cp:lastModifiedBy>markus</cp:lastModifiedBy>
  <dcterms:modified xsi:type="dcterms:W3CDTF">2009-08-31T09:23:30Z</dcterms:modified>
  <cp:revision>14</cp:revision>
  <dc:subject/>
  <dc:title>Flood risk assessment</dc:title>
</cp:coreProperties>
</file>