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37F0-26F2-4B7B-A51A-F61BF85D3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5C60-59C7-4656-9578-93A861DD6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068-B8A8-417D-99DD-789835D63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E6E1-EC6D-4887-9CC8-E1BFA4E6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E9B-DD52-4BFC-B46C-668C1DE43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0517-618B-466B-BAE7-1463CE50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616F-3CC7-4019-8CFD-101B04CE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B2B8-5DA7-46AF-ABAB-97F078529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7CF8-22BC-4D95-9D33-28F070CE0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6C2-ACDB-40BA-8939-BDC467C0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7FBC-3E3D-412E-A993-9F5E768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BD68-11FA-4EF8-825A-A454B570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194D-7411-4AF8-8C43-DC027CA55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Zebr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stributed routing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unihiro Ishigu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gital Magic Labs, In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daem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rapping service around interfa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rnel routing table upda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istribute routing information between different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Zebra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DEL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ROUTE_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EBRA_INTERFACE_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RIP Version1, 2  RIPng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G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 flap damp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OSPFd and oth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’s time to develop other protoc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forma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daemon has their own terminal interface and configuration 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rrent 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(for *BSD),RIPd,BGPd(dump only)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ML                                 &lt;zebra@digital-magic.co.jp&gt;                           for subscription please write to           &lt;zebra-request@digital-magic.co.jp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Home Page              http://zebra.digital-magic.co.jp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’s Zebra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distributed multi-server multi-thread routing softw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Zebra is a free software distributed under GP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Modularity,extensibility,maintain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t provides user level packet forwarding table when working with GNU Hu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do we need yet anothe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uting software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u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der development software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w world with zeb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One process per one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kernel routing table update and redistribution between different protocols are provided by zebra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  <a:ea typeface="ＭＳ ゴシック"/>
              </a:rPr>
              <a:t>Other daemons are for protocol hand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Easy to add a new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BGP route server and route reflector are integrated into BGP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Zebra architec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23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812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5880" y="2590920"/>
            <a:ext cx="13716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55360" y="31240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354840" y="312408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27520" y="3124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01160" y="31240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523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5880" y="3809880"/>
            <a:ext cx="1371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648320"/>
            <a:ext cx="5943600" cy="1218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388620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77120" y="388620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9760" y="50292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24480" y="5105520"/>
            <a:ext cx="838440" cy="6094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41148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209680" y="19047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19051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733920" y="2057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3920" y="205740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781680" y="1905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5257800" y="22093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57800" y="2209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multiple ser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ncreases modularity, extensibility, maintainabili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allows incremental development of a protocol daem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sy to add a new protocol without changing other source c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ten easy to 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ple servers can be sl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Inter process communication V.S. intra process commun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kernel routing table updates and redistribution would be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Authentication probl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Zebra architecture on GNU Hur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5238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308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2895480"/>
            <a:ext cx="99036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358128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fi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639400" y="3429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440" y="3429000"/>
            <a:ext cx="91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PF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81640" y="3352680"/>
            <a:ext cx="84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eb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6272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4114800"/>
            <a:ext cx="99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3880" y="4952880"/>
            <a:ext cx="594360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1500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4191120"/>
            <a:ext cx="60948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657600" y="533412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h Kern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010280" y="2209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038480" y="22096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19920" y="23619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038480" y="236232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038480" y="2209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029200" y="2514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2514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2895480"/>
            <a:ext cx="914400" cy="175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49400" y="3429000"/>
            <a:ext cx="8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BGP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4114800"/>
            <a:ext cx="9144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24280" y="4191120"/>
            <a:ext cx="609840" cy="38088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1460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92360" y="327672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592360" y="396252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ser leve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uting 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IP Address  (and destination) based policy rou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 interface routing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much more ideas…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038480" y="4876920"/>
            <a:ext cx="990720" cy="608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62320" y="563868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54864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45200" y="495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362320" y="6095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60958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 flipV="1">
            <a:off x="4038480" y="4419720"/>
            <a:ext cx="152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4876920" y="441972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5268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56386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6232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0" y="548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66688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6019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gme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31T16:02:06Z</dcterms:created>
  <dc:creator>Digital Magic Labs, Inc.</dc:creator>
  <dc:description/>
  <dc:language>en-US</dc:language>
  <cp:lastModifiedBy>Digital Magic Labs, Inc.</cp:lastModifiedBy>
  <dcterms:modified xsi:type="dcterms:W3CDTF">1997-06-08T12:35:31Z</dcterms:modified>
  <cp:revision>13</cp:revision>
  <dc:subject/>
  <dc:title>The Zebra Distributed routing system</dc:title>
</cp:coreProperties>
</file>