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1BACF-551A-40EA-9B22-AFD14B430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4B7D9-43E3-4D13-A3B1-88E54A80E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C278F-1ADD-46A4-8F83-AC785E6BD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46EC8-CE77-474D-8A9D-16932C677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911CE-7C6A-47BD-A461-1B826884C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B77F2-DCD8-4DF6-B699-0B5D10710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3E469-FBF9-41D5-A9CC-53F191486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46243-1243-46F7-8230-3618A2B2A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A3B7D-3C5C-4EA5-8C04-6CF4DFB7B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E37F2-B87E-4D2B-BB4D-86F924825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39941-D493-4844-A470-1853D3AA3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BABE7-1936-4FA1-91BB-84139815F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45A90-9232-440E-B386-D75890E8D4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1752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zeb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508480" y="4343400"/>
            <a:ext cx="414936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unihiro Ishigu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kunihiro@digital-magic.co.jp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’s zebra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ebra provide full routing pow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e process per one protoc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ute Server &amp; Route Reflector integr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ltithread based technolo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licy control and filte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GP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w it can announce routing information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support is undergo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federation support is not yet imp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 regular expression match not yet imp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further bgpd-pre-XXX rele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IP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IPv1 RIPv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464832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IP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894760" y="2286000"/>
            <a:ext cx="1386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ly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ce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ce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ll-en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419360" y="2286000"/>
            <a:ext cx="2070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i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ish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olet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olet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velop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velop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504800" y="5299200"/>
            <a:ext cx="481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is some lines of code for RI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terface handl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120" y="19051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do not use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octl(sock,SIOCGICONF…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us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sctl (mib, MIBSIZ…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ebra can handle unlimited number of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ebra has unlimited size of FD_SETSI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Zebra architectu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523880" y="2590920"/>
            <a:ext cx="137160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048120" y="2590920"/>
            <a:ext cx="137160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0" y="2590920"/>
            <a:ext cx="137160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095880" y="2590920"/>
            <a:ext cx="137160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755360" y="31240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GP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54840" y="3124080"/>
            <a:ext cx="80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P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7520" y="3124080"/>
            <a:ext cx="106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SPF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401160" y="3124080"/>
            <a:ext cx="8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eb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523880" y="3809880"/>
            <a:ext cx="13716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048120" y="3809880"/>
            <a:ext cx="13716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572000" y="3809880"/>
            <a:ext cx="13716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095880" y="3809880"/>
            <a:ext cx="13716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523880" y="4648320"/>
            <a:ext cx="5943600" cy="1218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981080" y="3886200"/>
            <a:ext cx="609840" cy="3808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3886200"/>
            <a:ext cx="609480" cy="3808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952880" y="3886200"/>
            <a:ext cx="609840" cy="3808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77120" y="3886200"/>
            <a:ext cx="609480" cy="3808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659760" y="5029200"/>
            <a:ext cx="184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X Ker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324480" y="5105520"/>
            <a:ext cx="838440" cy="6094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781680" y="41148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2209680" y="19047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209680" y="1905120"/>
            <a:ext cx="457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3733920" y="20574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733920" y="2057400"/>
            <a:ext cx="3047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78168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5257800" y="220932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257800" y="22096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bou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mr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523880" y="1981080"/>
            <a:ext cx="28958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23880" y="2819520"/>
            <a:ext cx="289584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523880" y="3581280"/>
            <a:ext cx="289584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523880" y="4343400"/>
            <a:ext cx="28958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62720" y="1981080"/>
            <a:ext cx="2895480" cy="3048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364120" y="5181480"/>
            <a:ext cx="94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eb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707160" y="5181480"/>
            <a:ext cx="67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676520" y="2133720"/>
            <a:ext cx="2286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676520" y="2895480"/>
            <a:ext cx="2286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676520" y="3657600"/>
            <a:ext cx="2286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676520" y="4419720"/>
            <a:ext cx="2286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791320" y="2209680"/>
            <a:ext cx="457200" cy="26672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6324480" y="24382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6324480" y="27432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6324480" y="30481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6324480" y="33526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6324480" y="36576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6324480" y="39625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6324480" y="4267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6324480" y="45720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933240" y="3276720"/>
            <a:ext cx="141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tex_lo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1981080" y="22096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1981080" y="23623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1981080" y="25146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1981080" y="2971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19810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1981080" y="32767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1981080" y="37339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1981080" y="38862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1981080" y="4038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1981080" y="44956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1981080" y="46483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1981080" y="48006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589840" y="2133720"/>
            <a:ext cx="141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tex_lo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589840" y="2895480"/>
            <a:ext cx="141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tex_lo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589840" y="3657600"/>
            <a:ext cx="141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tex_lo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9840" y="4495680"/>
            <a:ext cx="141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tex_lo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11640" y="2895480"/>
            <a:ext cx="80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P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12360" y="213372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GP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6760" y="3657600"/>
            <a:ext cx="106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SPF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09840" y="4419720"/>
            <a:ext cx="8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eb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876920" y="3200400"/>
            <a:ext cx="60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w world with zeb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can develop each protocol daemon separate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only need BGPd for Route Server and/or Rout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can disable protocol by killing proc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debug eas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n…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ebra ML (English onl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ebra Home P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urd 0.2 will be out soon. They will change interface from C-thread to P-thre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til that we develop thread routine under Solaris 2.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3-25T01:36:12Z</dcterms:created>
  <dc:creator>Digital Magic Labs, Inc.</dc:creator>
  <dc:description/>
  <dc:language>en-US</dc:language>
  <cp:lastModifiedBy>Digital Magic Labs, Inc.</cp:lastModifiedBy>
  <cp:lastPrinted>1997-03-26T08:43:22Z</cp:lastPrinted>
  <dcterms:modified xsi:type="dcterms:W3CDTF">1997-03-26T08:48:16Z</dcterms:modified>
  <cp:revision>4</cp:revision>
  <dc:subject/>
  <dc:title>zebra</dc:title>
</cp:coreProperties>
</file>