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1024-CA31-4D47-BB85-6F385CEF3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940A-EA5B-42AA-B6C3-BCD2B2771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371C-678A-4955-84C0-33755F919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B535-E74B-4DD7-931C-644FF0EAC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B736-6087-4064-90D3-B6DE120F9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7688-9400-45EB-A9B7-F176A2A53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B9E4-E1EA-4BC6-A287-731699952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46E0-D1F0-44E3-B030-4F368839F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CAE6-8D82-435B-9B16-765808AC2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8F75-9A53-441D-9393-18D6BC89D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F94E-5E03-4E81-AD93-2A66B5CD8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B248-21FD-4BAC-9416-5B854345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E53F2-B78A-4283-9572-B31B068E9D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jen Mar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ew examples of Plotchart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 DeCoster’s xy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al: SCADA dis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use: just a few commands for a 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de range of plot and chart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d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s predecessor: emu_graph by Ste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si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dec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whole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form of cli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nage the data (duplic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ing the appearance takes effect for new data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the plot of the chosen type – new com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l in the data via subcomm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s differ per plot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de – linking method names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title)             Draw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xtext)             DrawX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plot)              Draw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dot)               DrawD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dotconfig)         DotConfig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interval)          DrawInter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trend)             DrawTrend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piechart,plot)            DrawP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piechart,saveplot)        SavePl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::Plotchart::createPiechart { w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data_se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s [array names data_series "$w,*"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set data_series($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newchart "piechart_$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rp alias {} $newchart {} ::Plotchart::PlotHandler piechart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pyConfig piechart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pxmin pymin pxmax pymax} [MarginsCircle $w] {break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iewPort $w $pxmin $pymin $pxmax $py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w create oval $pxmin $pymin $pxmax $py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Colours $w blue lightblue green yellow orange red magenta brow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aultLegend 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aultBalloon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$newch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– par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::Plotchart::PlotHandler { type w command args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methodPr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{ [info exists methodProc($type,$command)]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val $methodProc($type,$command) $w $ar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-code error "No such method - $command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: con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eople have contributed with code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 Stucky, Stefan Finzel, Pa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gel, Dave Hanks, Michael Baud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ve Blinkhorn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 DeCoster has developed xyplot on 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Plot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ly supported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Y-plots (also logarithmic ax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our plots (2D and 3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grams and pie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charts and Gantt 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al cha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ous types of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plots in one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4T04:30:44Z</dcterms:created>
  <dc:creator>Computer Services</dc:creator>
  <dc:description/>
  <dc:language>en-US</dc:language>
  <cp:lastModifiedBy>Computer Services</cp:lastModifiedBy>
  <dcterms:modified xsi:type="dcterms:W3CDTF">2010-06-04T04:48:12Z</dcterms:modified>
  <cp:revision>4</cp:revision>
  <dc:subject/>
  <dc:title>Plotchart</dc:title>
</cp:coreProperties>
</file>