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85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803708-7331-41FA-A435-4CD039C9D2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297E-C739-44C7-B39B-49637DBBF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7629-BF51-4C9E-A9AE-3FE75FA2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C48C-DC4F-40A2-A731-C4B8023AB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2FCA-5C43-475C-B301-562F56780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F1AD-0624-4180-829D-82BECC00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4E11-108B-46FF-98F6-9B0ADB2D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4BA7-F5B2-4180-9572-C5A83314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6E9F-EDB4-44B1-997B-D02961FE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78A1-3B46-4F8D-93BB-805D17C4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03C3-39AA-4733-97D2-11B194EB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974D-1C8A-491B-AE06-06B8190C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6142-A177-4251-88C2-9BA53CD2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BDE18D-4707-4541-9F8B-5EBC5020CD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SQLite in Tcl in SQ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Tcl/Tk script for displaying and maintaining an SQLite database, stored in an SQLit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8757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Table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7240" y="1828800"/>
            <a:ext cx="8620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tand-alon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vert between v2 and v3 fil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table from or export table to delimited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row can be column names o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ed data can have variable number of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db element from or export db element to text file (like ONECOLUMN meth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cute a single line of SQL or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Ru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5880" y="1828800"/>
            <a:ext cx="43466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cision to Put showtable in Database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pired by the “Database as Program” section of DRH's “SQLite and Tcl” paper, but not an implementation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ed to put a functional block (the chief proc for a function and its supporting proc's) in on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't put header and body in separate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function can't call support proc unless its functional block is known to have been 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269640"/>
            <a:ext cx="9072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B: Impacts of Putting showtable in Database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9920" y="1600200"/>
            <a:ext cx="90723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ACH capability became mand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only one file can be displayed/edited, that one slot can't be taken up by the displaying program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o data arrays as 2D (attach name and original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d to implement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rching routine needed to look at all Tcl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matching brackets, braces, and paren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and Replace All, with and without confirmation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for infinit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editrunt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233360"/>
            <a:ext cx="6580080" cy="60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1442880"/>
            <a:ext cx="746748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8480" y="1545840"/>
            <a:ext cx="9072720" cy="57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ckage require Tk; package require Tktable; consol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Create namespace for all "globals" and pr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amespace eval ::GEB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3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dbfile showtable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qlite3 sq $db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::GEB::attachfilename(main) $db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c evalsqlitetcl t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plevel #0 [join [sq eval "select tcl from $table limit 1"]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valsqlitetcl main_att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ditrunt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attachit s2008 /irisdata/2008symp/2008symp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_attach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3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in cor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ose needed before “unknown” is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 up window and arrays for mai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ble names, columns in each tab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“unknown” proc handler to look in databas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table with the name of the needed proc exists, loa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loading defines the proc, execu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, exec original “unknown” hand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Present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he project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ts goals have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y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olution: tkTable, storing script in SQLi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tup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t and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users and lic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ve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ummary of Development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azingly few gotchas considering my level of knowledge of Tcl/Tk/SQLite when I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ften took longer to decide what I wanted to do and how I wanted it to work than to implem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very useful tool. For me. It fits my way of thinking. But for others it may be too idiosyncrat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wildcards in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editing a development version while executing stable version (row vs colu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tch to 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 full text search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ilitate displays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otential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extreme: Tcl developer who does not care about SQ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ivable, but many more facilities available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extreme: SQLite user who does not care about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ightly more reasonable, but again, other tool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ppy medium: User with some data and some scripts, who wants to keep and use them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Licen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8480" y="1463760"/>
            <a:ext cx="90727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nded to be released to Public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t would feel wrong to be more restrictive than SQLite itsel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QLite blessing or equiv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do good and not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find forgiveness for yourself and forgiv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share freely, never taking more than you g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development encouraged, especially if kept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available--inquire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ry Snyder  mesmerizerfan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(evolving) 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 dependence on proprietary s/w and data formats (MS Access, dBase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nient scripting language, run on Linux an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single package for all my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table/column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and edit table cont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/edit/execute Tcl/SQL code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 the program itself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 functions as the need arises (ongo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sign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data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generated SQL before COM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llow many combinations of Alter Table functions in a single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 slower scree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imize boot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to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1663560"/>
            <a:ext cx="671832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botto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7040" y="1685880"/>
            <a:ext cx="6743520" cy="46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Alt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98680" y="1600200"/>
            <a:ext cx="7188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editta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0" y="1384200"/>
            <a:ext cx="553716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Change to Tk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ven by desire to improve l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table is editable, in its ow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lved potential problem of displaying large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cell entry value from an individual 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but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 specific potential problem nor iron-clad bulletproofing has been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